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A6E-9A8A-468B-8935-3213D18D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F76-ECC7-435B-9F70-C07F53F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1B5-40EA-45AC-AE0D-880F1791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462-8328-4CAE-BC56-D316271B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8BC-9E5C-404A-8100-4F5C6AD2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13F-4C42-45F6-8049-6554472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538-6E8B-41AC-A799-AA05E76C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6C3-0565-4486-A902-1F25101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42E-BC76-41C5-A57E-16B50A94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1AB-B783-437A-B43E-FB92FD1D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935-52FF-43CB-95E0-CACC0A2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B35-BE8B-4BC5-A0CE-D67435A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19F-47B1-4E7B-854A-125D0F744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read a pedigre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6" descr="pedigree key.gif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952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5334120" y="5334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10080" y="5257800"/>
            <a:ext cx="30492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 flipH="1">
            <a:off x="5562000" y="6019920"/>
            <a:ext cx="7596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410080" y="5943600"/>
            <a:ext cx="3812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how traits are passed down through many gen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mostly on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the actual off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nett squares show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ssi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ly only works well for single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polygenic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orks for inherited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factors play a large role in who we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heriting Dise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like physical trait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eases can be inherited on our chromosom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, just like physical traits, some are X-linked, some are recessive, some are dominant or codomin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Chromosomal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X-Inactivation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men only need one X chromosome, do women need both X’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, which one “works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Non-disjunction 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w gametes can end up with the wrong # of chromosomes in mei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-Chromosome Inac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 are XY: One X chromosome is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re XX:  The “extra” copy is not needed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denses into a “Barr body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have trillions of cells.  Which X chromosome that “switches off” can vary in each ce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barr.gif"/>
          <p:cNvPicPr/>
          <p:nvPr/>
        </p:nvPicPr>
        <p:blipFill>
          <a:blip r:embed="rId1"/>
          <a:stretch/>
        </p:blipFill>
        <p:spPr>
          <a:xfrm>
            <a:off x="4114800" y="4114800"/>
            <a:ext cx="3895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aic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cat barr.jpg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coming apar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ologous chromosomes fail to separate in mei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n Trisomy or Monos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linefelter syndrome (trisomy X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 syndrome (trisomy 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ers syndrome (X_ monosom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4" descr="nondisjunction.jpg"/>
          <p:cNvPicPr/>
          <p:nvPr/>
        </p:nvPicPr>
        <p:blipFill>
          <a:blip r:embed="rId1"/>
          <a:stretch/>
        </p:blipFill>
        <p:spPr>
          <a:xfrm>
            <a:off x="4343400" y="228600"/>
            <a:ext cx="4572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56760" y="19828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98" name="Chapter 14B.mpg" descr=""/>
          <p:cNvPicPr/>
          <p:nvPr/>
        </p:nvPicPr>
        <p:blipFill>
          <a:blip r:embed="rId4"/>
          <a:stretch/>
        </p:blipFill>
        <p:spPr>
          <a:xfrm>
            <a:off x="590400" y="461880"/>
            <a:ext cx="8020080" cy="601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8840" y="6854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uman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7440" y="2895120"/>
            <a:ext cx="3352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apter 14-1, 14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Huma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scq.ubc.ca/wp-content/uploads/2006/08/molecular-machine.gif"/>
          <p:cNvPicPr/>
          <p:nvPr/>
        </p:nvPicPr>
        <p:blipFill>
          <a:blip r:embed="rId1"/>
          <a:stretch/>
        </p:blipFill>
        <p:spPr>
          <a:xfrm>
            <a:off x="380880" y="444600"/>
            <a:ext cx="4876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GGGTCGCGTATCGTAGCTGATGGGGGTAGTATTTTATATGCTGGTAGACAAAACGGTGTACTGCCGTCGTCGTAGTGATGTGCGGCGCCAAAAATTATACTGTGACTGATCGTAGTGTAAAAAAAAAAGTCGTGCTGCTTTTTTCGATCGCGCGTAGTAGCTACGCCGCGGTTCGCGCGTAAGAGACTGATGCGACTGATATATATACGCGCTAGCATATATCTCTCGATCTGATCGTAGATGCTTAAGTTACTAGCTGTCGTATACGTAGTTAGTCGGGTGATGATGCTGTATATATCGCGCTCTATATGCTAGCTAGTGTTGTAGCTAGCTGATTCCCTCGAAGTCTCGTGAATAATCGCGCTTTCGGGGGCTCTC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 have 22 pairs of AUTOSOM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is the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ir different?  What is it call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is picture called?  When was this cell photograph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is a man or a woman?  How do you kn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uman female karyotype"/>
          <p:cNvPicPr/>
          <p:nvPr/>
        </p:nvPicPr>
        <p:blipFill>
          <a:blip r:embed="rId1"/>
          <a:stretch/>
        </p:blipFill>
        <p:spPr>
          <a:xfrm>
            <a:off x="533520" y="2286000"/>
            <a:ext cx="80010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“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pair are the sex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is picture is a kary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t was taken during mitosis (likely metaph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t is a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has one X chromosome (larger) and one Y chromosome (smal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womancarrier.jpg"/>
          <p:cNvPicPr/>
          <p:nvPr/>
        </p:nvPicPr>
        <p:blipFill>
          <a:blip r:embed="rId1"/>
          <a:stretch/>
        </p:blipFill>
        <p:spPr>
          <a:xfrm>
            <a:off x="457200" y="396252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200040" y="533160"/>
            <a:ext cx="5638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 = hemophilia, a sex-linked dis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, can you answ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dad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m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have the disea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carri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healthy? (carefu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members.tripod.com/~dnascienceandtech/malehemo.jpg"/>
          <p:cNvPicPr/>
          <p:nvPr/>
        </p:nvPicPr>
        <p:blipFill>
          <a:blip r:embed="rId2"/>
          <a:stretch/>
        </p:blipFill>
        <p:spPr>
          <a:xfrm>
            <a:off x="533520" y="685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other way to study inheri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6" descr="xlinked.gif"/>
          <p:cNvPicPr/>
          <p:nvPr/>
        </p:nvPicPr>
        <p:blipFill>
          <a:blip r:embed="rId1"/>
          <a:stretch/>
        </p:blipFill>
        <p:spPr>
          <a:xfrm>
            <a:off x="457200" y="2371680"/>
            <a:ext cx="4038480" cy="2982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you think the F1 generation (line II) # 2 and #5 offspring repres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draw the Punnett Square for the Parent generation? (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9"/>
          <p:cNvSpPr/>
          <p:nvPr/>
        </p:nvSpPr>
        <p:spPr>
          <a:xfrm>
            <a:off x="137160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373392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58:52Z</dcterms:created>
  <dc:creator>Joanne Lilliendahl</dc:creator>
  <dc:description/>
  <dc:language>en-US</dc:language>
  <cp:lastModifiedBy>udsd</cp:lastModifiedBy>
  <dcterms:modified xsi:type="dcterms:W3CDTF">2010-04-29T22:48:12Z</dcterms:modified>
  <cp:revision>37</cp:revision>
  <dc:subject/>
  <dc:title>Human Genetics</dc:title>
</cp:coreProperties>
</file>